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9C5C6-9127-4543-A1B7-1647BF46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BE075-F5BD-4FF7-928F-926A6B2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D81B9-0301-4A78-A002-E088E1A4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BEA2C-0CB0-466A-998B-EF218773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94F-D74A-466E-8DE9-EFBF73F8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182B-4A48-41A1-9035-B2351AB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742E-BE30-43EB-B8E6-2A89AAD6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7A4D-A6CD-46FE-9FB9-D0F76B4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8EF9-4C92-4937-9845-98BA517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8365-EACF-4D82-81DA-B3CB2680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589-2EF8-43B5-B5DF-0A590C7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93BC-9E41-42A4-98EB-4FA06EF5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01E6-B91E-46F9-8A45-7243D41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EA5D-8C13-484F-98B4-9817FBE7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8E1D-8374-4944-A28C-FEADFA8A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56E1-9813-4C3E-8D72-614401DB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B07B-A31E-4224-9E0B-A1428ABB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7E7C6-9EB5-45CF-961A-D5403B7F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92F7E-59A3-46C8-B31E-F2EA87D8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E91A-D707-4C90-87D9-99082365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6AA82-244B-48F2-A8A9-21369099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C1C6-1DE8-47A1-8136-78C45A9C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1C0C-1D55-4668-B99E-DB3C6B26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06D5-5607-4AB1-9C7B-5A16D97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18FE-1590-48F9-8708-A95475F8A0C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C0E4-780C-4DAB-A3B1-AA88419B631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7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8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8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3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8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500"/>
                            </p:stCondLst>
                            <p:childTnLst>
                              <p:par>
                                <p:cTn id="2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